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1FE5-476A-4CE7-A121-3FBEA106E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C8EE-A3EF-48F4-85E1-48C8E7EE3817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F4F-DABE-4C19-A99B-3F774FE6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DDF-41CC-4B2A-B0FE-3DF313D0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E13-B440-45C4-A397-1067DC6F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9DD-C9F0-4A82-979E-2F4075F3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BC4E-5AC1-49C6-8C37-87B30B08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85A9-CEA2-4F0D-BDE0-EC5221D2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8CD8-1AA9-4E75-8E42-CB5945C4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7B32-8DEF-4636-BC0C-DB0FEAE1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1BC7-2509-436B-984F-D231D8FC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EB09-9421-42D1-BEE8-0A9B7E31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7DB1-21B0-46AB-9D15-3E11CDDA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35B-C1D0-45AB-ACBF-19D71AA9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3547-A04A-4B68-A071-B927CAD1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5E7B-D58E-4655-BF53-A02287B6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3536-68BC-4016-AF6E-5CDDBF08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D687-719A-4BE8-8F8E-EA114B9D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4D46-C12E-491E-A4B4-25A9E6E8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42A-B743-4A91-8AC2-4FABC1E7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6CE-1616-4AA9-8FDF-6035615F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58D-2DF7-4F4D-B850-24912BC2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CD5-9C53-40BC-8174-4443C302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EDA-854A-4759-B76F-DC0C05E6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B9A-BBED-4700-AE18-AB9FE390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E46-2E57-402A-A672-6EC0F116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ff03e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753bc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BA91-1462-42C1-9128-B74DC2EFE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custGeom>
                      <a:avLst/>
                      <a:gdLst>
                        <a:gd name="textAreaLeft" fmla="*/ 0 w 2126880"/>
                        <a:gd name="textAreaRight" fmla="*/ 2127240 w 212688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240"/>
                        <a:gd name="textAreaBottom" fmla="*/ 426600 h 4262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760"/>
                        <a:gd name="textAreaBottom" fmla="*/ 375120 h 374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920"/>
                        <a:gd name="textAreaBottom" fmla="*/ 422280 h 42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600"/>
                        <a:gd name="textAreaBottom" fmla="*/ 264960 h 264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>
                        <a:gd name="textAreaLeft" fmla="*/ 360 w 2126160"/>
                        <a:gd name="textAreaRight" fmla="*/ 2126880 w 21261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8760"/>
                        <a:gd name="textAreaBottom" fmla="*/ 429120 h 428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4080"/>
                        <a:gd name="textAreaBottom" fmla="*/ 424440 h 42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>
                        <a:gd name="textAreaLeft" fmla="*/ -360 w 1357560"/>
                        <a:gd name="textAreaRight" fmla="*/ 1357560 w 13575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>
                      <a:gd name="textAreaLeft" fmla="*/ -360 w 1265400"/>
                      <a:gd name="textAreaRight" fmla="*/ 1265400 w 12654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>
                        <a:gd name="textAreaLeft" fmla="*/ 0 w 702720"/>
                        <a:gd name="textAreaRight" fmla="*/ 703080 w 70272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custGeom>
                      <a:avLst/>
                      <a:gdLst>
                        <a:gd name="textAreaLeft" fmla="*/ 0 w 1423800"/>
                        <a:gd name="textAreaRight" fmla="*/ 1424160 w 142380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custGeom>
                      <a:avLst/>
                      <a:gdLst>
                        <a:gd name="textAreaLeft" fmla="*/ 0 w 765720"/>
                        <a:gd name="textAreaRight" fmla="*/ 766080 w 76572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>
                        <a:gd name="textAreaLeft" fmla="*/ 0 w 1176120"/>
                        <a:gd name="textAreaRight" fmla="*/ 1176480 w 117612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>
                        <a:gd name="textAreaLeft" fmla="*/ 0 w 631440"/>
                        <a:gd name="textAreaRight" fmla="*/ 631800 w 63144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>
                        <a:gd name="textAreaLeft" fmla="*/ -360 w 2127240"/>
                        <a:gd name="textAreaRight" fmla="*/ 2127240 w 212724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custGeom>
                      <a:avLst/>
                      <a:gdLst>
                        <a:gd name="textAreaLeft" fmla="*/ 360 w 1055520"/>
                        <a:gd name="textAreaRight" fmla="*/ 1056240 w 10555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custGeom>
                      <a:avLst/>
                      <a:gdLst>
                        <a:gd name="textAreaLeft" fmla="*/ 360 w 1887120"/>
                        <a:gd name="textAreaRight" fmla="*/ 1887840 w 188712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>
                        <a:gd name="textAreaLeft" fmla="*/ 0 w 2126160"/>
                        <a:gd name="textAreaRight" fmla="*/ 2126520 w 212616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custGeom>
                      <a:avLst/>
                      <a:gdLst>
                        <a:gd name="textAreaLeft" fmla="*/ 0 w 2033640"/>
                        <a:gd name="textAreaRight" fmla="*/ 2034000 w 203364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custGeom>
                      <a:avLst/>
                      <a:gdLst>
                        <a:gd name="textAreaLeft" fmla="*/ 0 w 1090080"/>
                        <a:gd name="textAreaRight" fmla="*/ 1090440 w 109008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custGeom>
                      <a:avLst/>
                      <a:gdLst>
                        <a:gd name="textAreaLeft" fmla="*/ 0 w 1972800"/>
                        <a:gd name="textAreaRight" fmla="*/ 1973160 w 197280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custGeom>
                      <a:avLst/>
                      <a:gdLst>
                        <a:gd name="textAreaLeft" fmla="*/ 0 w 1772280"/>
                        <a:gd name="textAreaRight" fmla="*/ 1772640 w 177228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600"/>
                        <a:gd name="textAreaBottom" fmla="*/ 363960 h 363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360 h 2524320"/>
                      <a:gd name="textAreaBottom" fmla="*/ 2525040 h 25243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3640"/>
                      <a:gd name="textAreaBottom" fmla="*/ 2934000 h 293364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4720"/>
                      <a:gd name="textAreaBottom" fmla="*/ 2935080 h 293472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1120"/>
                      <a:gd name="textAreaBottom" fmla="*/ 2841480 h 284112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1120"/>
                      <a:gd name="textAreaBottom" fmla="*/ 2841480 h 284112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560"/>
                      <a:gd name="textAreaBottom" fmla="*/ 1879920 h 187956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840"/>
                  <a:gd name="textAreaBottom" fmla="*/ 2842200 h 28418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520"/>
                  <a:gd name="textAreaBottom" fmla="*/ 1973880 h 1973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480"/>
                  <a:gd name="textAreaBottom" fmla="*/ 1032840 h 1032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32F1-E810-4108-9AD8-92E2E0A7012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`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WordArt 4"/>
          <p:cNvSpPr txBox="1"/>
          <p:nvPr/>
        </p:nvSpPr>
        <p:spPr>
          <a:xfrm>
            <a:off x="838080" y="990720"/>
            <a:ext cx="72392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13 English  Coloni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Middle Colon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illiam Pen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had borrowed money from PENNS wealthy fathe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ow Penn asked for land as repayments. Penn wanted to build a colony based on his religious belief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Picture 5" descr="William Penn"/>
          <p:cNvPicPr/>
          <p:nvPr/>
        </p:nvPicPr>
        <p:blipFill>
          <a:blip r:embed="rId1"/>
          <a:stretch/>
        </p:blipFill>
        <p:spPr>
          <a:xfrm>
            <a:off x="5715000" y="1600200"/>
            <a:ext cx="30099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664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nglish warships sailed into New Amsterdam harbo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7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_Middle_Colonies__New_York_and_New_Jersey.as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WordArt 4"/>
          <p:cNvSpPr txBox="1"/>
          <p:nvPr/>
        </p:nvSpPr>
        <p:spPr>
          <a:xfrm>
            <a:off x="1828800" y="304920"/>
            <a:ext cx="5410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VIE TIM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Southern Colon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63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ing Charles I gave a large section of land north of  Virginia to a catholic landowner named Lord Baltimor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9" descr="Charles the First at Edgehill by Sir Edwin Landseer."/>
          <p:cNvPicPr/>
          <p:nvPr/>
        </p:nvPicPr>
        <p:blipFill>
          <a:blip r:embed="rId1"/>
          <a:stretch/>
        </p:blipFill>
        <p:spPr>
          <a:xfrm>
            <a:off x="4525920" y="1676520"/>
            <a:ext cx="3094200" cy="3751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ames Oglethorp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 English leader named James Oglethorpe helped found the last English colonies North America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glethorpe saw that English jails  were  crowded with Debtors, or people who owned money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Picture 5" descr="Ogle52"/>
          <p:cNvPicPr/>
          <p:nvPr/>
        </p:nvPicPr>
        <p:blipFill>
          <a:blip r:embed="rId1"/>
          <a:stretch/>
        </p:blipFill>
        <p:spPr>
          <a:xfrm>
            <a:off x="6006960" y="1981080"/>
            <a:ext cx="3137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1732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King George ll gave Oglethorpe a Charter to land  south of the Carolina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ll dir="r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mochich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562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omochichi chief of the Yamacraw trib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Yamacraw agreed to give land to Oglethorpe and his settler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ith about 100 released debtors, Oglethorpe founded his first settlement in Georgia, which he named savannah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5" descr="TomoChiChi"/>
          <p:cNvPicPr/>
          <p:nvPr/>
        </p:nvPicPr>
        <p:blipFill>
          <a:blip r:embed="rId1"/>
          <a:stretch/>
        </p:blipFill>
        <p:spPr>
          <a:xfrm>
            <a:off x="5845320" y="1981080"/>
            <a:ext cx="329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8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66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en King Charles gave eight proprietors a Charter between Virginia and the Spanish colony of Florid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w England Colon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729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rolina was divided into two separate coloni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irginia ,1607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tablish English colony in North American, search for gol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orgia, 173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fuge for debtors ,Colony between Carolinas &amp; Florid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_Southern_Colonies.as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WordArt 4"/>
          <p:cNvSpPr txBox="1"/>
          <p:nvPr/>
        </p:nvSpPr>
        <p:spPr>
          <a:xfrm>
            <a:off x="1828800" y="304920"/>
            <a:ext cx="5410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VIE TIM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NEW ENGLAND COLONIES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MIDDLE COLONIES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OUTHEN COLONI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OGER WILLIAMS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DISSENT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NNE HUTCHINS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OMAS HOOK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WILLIAM PEN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ROPRIETORS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JAMAES OGLETHORP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DEBTOR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OMOCHICHI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636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dger Williams traveled south in the snowy weath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omas Hooker a puritan minister left Massachusetts with about 100 followe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Picture 6" descr="Roger Williams: Roger Williams Building His House"/>
          <p:cNvPicPr/>
          <p:nvPr/>
        </p:nvPicPr>
        <p:blipFill>
          <a:blip r:embed="rId1"/>
          <a:stretch/>
        </p:blipFill>
        <p:spPr>
          <a:xfrm>
            <a:off x="3276720" y="0"/>
            <a:ext cx="2819160" cy="20494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0" descr="orveledwinhookersr2"/>
          <p:cNvPicPr/>
          <p:nvPr/>
        </p:nvPicPr>
        <p:blipFill>
          <a:blip r:embed="rId2"/>
          <a:stretch/>
        </p:blipFill>
        <p:spPr>
          <a:xfrm>
            <a:off x="6324480" y="4481640"/>
            <a:ext cx="2819520" cy="2528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ne Hutchins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e was another dissenter who angered Puritan leaders in Massachuset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e believed that a person’s own faith in God was more important than the church’s rules and law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4" descr="ts?t=11438860259251752903&amp;pid=23296&amp;ppid=9"/>
          <p:cNvPicPr/>
          <p:nvPr/>
        </p:nvPicPr>
        <p:blipFill>
          <a:blip r:embed="rId1"/>
          <a:stretch/>
        </p:blipFill>
        <p:spPr>
          <a:xfrm>
            <a:off x="0" y="0"/>
            <a:ext cx="22096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oger Williams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e was an outspoken young minister in Salem ,Massachuset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e believed that the government should not punish citizens for what they believ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illiams was known as a dissent, a person whose view differ from those held by most people in the community , because of his beliefs ,Puritan leaders forced Williams to leave Massachuset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5" descr="From RWU Archives"/>
          <p:cNvPicPr/>
          <p:nvPr/>
        </p:nvPicPr>
        <p:blipFill>
          <a:blip r:embed="rId1"/>
          <a:stretch/>
        </p:blipFill>
        <p:spPr>
          <a:xfrm>
            <a:off x="307800" y="0"/>
            <a:ext cx="15973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omas Hooker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e left Massachusetts with about 100 follower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oker and his followers came to this new land in search of greater religious and political freedo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4" name="Picture 5" descr="hookertn"/>
          <p:cNvPicPr/>
          <p:nvPr/>
        </p:nvPicPr>
        <p:blipFill>
          <a:blip r:embed="rId1"/>
          <a:stretch/>
        </p:blipFill>
        <p:spPr>
          <a:xfrm>
            <a:off x="5300640" y="1523880"/>
            <a:ext cx="274788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w Hampshire, 1679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ohn Wheelwright trade, fish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ssachusetts bay, 163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cape Religious Persecution in Englan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troduction_to_the_New_England_Colonies.as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WordArt 4"/>
          <p:cNvSpPr txBox="1"/>
          <p:nvPr/>
        </p:nvSpPr>
        <p:spPr>
          <a:xfrm>
            <a:off x="1828800" y="304920"/>
            <a:ext cx="5410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VIE TIM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5:16:25Z</dcterms:created>
  <dc:creator>student</dc:creator>
  <dc:description/>
  <dc:language>en-US</dc:language>
  <cp:lastModifiedBy>student</cp:lastModifiedBy>
  <dcterms:modified xsi:type="dcterms:W3CDTF">2010-03-22T13:58:00Z</dcterms:modified>
  <cp:revision>16</cp:revision>
  <dc:subject/>
  <dc:title>Slide 1</dc:title>
</cp:coreProperties>
</file>